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46073E-ECF6-4B3A-B6EE-B9B703A7D8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B90410E6-AE2F-4C5F-B957-319C67313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3F2DE94-45EE-4C2A-923E-2EAE64D026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F23B6D9-10C9-4748-B148-468149D4ED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0275A0D-8C71-447E-AE7A-A1ED7C4536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6E6B60-5F21-450E-A180-66AA79B13C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0EA3167-ADC2-4030-AB00-52828C4B6A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A0C9B9-4CF1-49C0-A2B9-7AD64EF9FC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2D52304-1749-4486-9F2C-95567285A5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690F5C2-6391-4E9F-847B-B3EDE107CC2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4C267C1-DB05-4221-B913-68F9A25E4F1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1F09BC5-BA5C-453E-AFD9-3066CA6043C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6A57A810-04FB-48DE-BAC8-AB1F8F93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223BBAF-2FDB-4DE6-9020-DD9A5A98C0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C9A26E6-1D46-4F53-9F53-2442838BC7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C93211-4ED0-482E-95A1-988D580179B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6A2531B-A4DE-42C9-93D8-C86BE39971E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C280772-A2F6-462C-A671-D598E23030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3DDCB6-BC6E-4DF9-AB9C-9ACB49FD0FF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4EFE55-0E9C-4482-AAD1-D9016DDB96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01EB12A-5010-450F-A14D-DD71D45D9F3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DD09812-DB45-47CA-A266-FAA288A70F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CDA0C22-221D-4226-8CDD-3232F8DD5ED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3B79E58F-4BFC-4814-B9D2-2DBBED3B7E4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D881583-7056-4218-92EB-084F11561E2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7FFA722-2462-4C94-8B65-755841B9CE1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145B280-A03E-4F42-A5D8-96DE5249758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574943-AFB1-4248-8292-E50D64F9DE7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6C0DEE8-0D63-4E08-9AFE-333B3DAC56A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6491324-DB71-4316-93BD-F23FBAE2AD9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D3FCA11-9B95-454F-BACA-FAC1EF93C26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40FC072-FAF3-4531-AC92-B39F3999EB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BE16D92-1BF7-4BF1-ADA2-39B264A314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3CD47E-73A2-4D79-B536-78A47D9580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C413721-9D2A-4BD1-BEB4-81EA47696CC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7EDA0B1-3027-4DF5-A62D-CE03EE16F79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B3B2F7D-87D0-4AB0-9C62-6AABD4198A5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513B41A-A6DE-4A3E-8D64-9C6BFADB854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F65313-AEA9-474A-AB9D-7E9FA0A2852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9EEA76C-EAD8-4C66-8637-154D31B9817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4B88E63-374B-4059-8E3B-CA9BFBCAB34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1CB83C7-F79F-461F-A629-36DF58CA1CE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A4B81CC-CF95-482F-AE01-8827E56907E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0228A01-FFA7-41CE-9320-A3C3FFAD09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3714368-4EA3-454F-8334-F5CCA7ACA7D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E87C02-894F-4C24-96D0-6FAA123A4C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3566533-584C-4CA5-987C-5426DEC33B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A5FEEC7-4416-4935-B9BA-EF2C24EF0D8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FBB0A95-43AA-42DD-B213-3E29316EFC8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B987CDA0-50A6-48D1-BA07-10872DB25EFF}"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BF03A1AA-94C7-49BE-8434-6149E9E337E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2090100D-A987-4190-81B1-61C11283B1A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3ECBB5A3-0620-4B85-B997-E93EC097F8D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09FAC77A-62E7-4C3C-9890-70A07B67220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2873B3CD-6065-462F-AFBC-21C00097B18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20C14C41-30C4-4E8E-88A5-81C0FBC4622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30B0689C-3B08-45BC-AFFD-57F21B0622A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7A4D9C4D-5BDD-44E0-9149-6783F707AC9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DA98A81D-A744-4856-BEB8-52F4E02B8D5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BAC9344D-7ED5-468D-A17A-6527C223F6A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6A352925-5C54-440D-9175-8663A690DE10}"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2FD8E0AE-CBA0-4293-A4E1-A536D0390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18DB99-2F49-4E4A-9D0A-ACC51D6C9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EB022-AAFB-4054-AD55-05BF640E8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3DDB6-198E-4D5F-8BC2-8FC8709A9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2D3ADF-31A5-411E-9E45-378D0E514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0AE54A-6A3A-42B2-8EDE-DFF0C2F65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993D47FA-4390-48CD-B21D-81D393C4B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31E65F-2D6B-40A4-A211-8439AD737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11CA0-9DAC-47A6-998B-3021C7BAB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FA738-827C-4038-82C9-6C982F610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D22A2-74DF-4308-ADBA-8F40FFB9C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6D24B-9BE8-4380-AAB3-DFFDE8279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7D258-3F3B-47AA-B88A-C7E9ED7B37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5521B7-6E23-472A-B642-16A1FCE846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3DF894-EBAC-402E-B746-5E6B98C2EC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EC810D-2283-4713-B080-921C06777C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6B859B-8A22-4D22-BEA5-517A314A2E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47978622-D67C-42A4-81B3-963BE5504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1EE260-189D-492C-A8CF-3C46ED6FC1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B79522-2B34-4D1B-A9A9-8FF68CECAF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993436-8E55-4A58-9252-06945D8ABB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7F24D1-BC4D-4196-A725-F819042A9C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F3B7A7-8AC6-4097-B5A9-59648AF6AF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4222CD-BC3E-4360-B9C3-C4B2AF68F6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1B15F6-466E-4795-B7CC-CB17534517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100A67-113D-440B-89AC-0E2E1EF8BAC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33D006-E4A3-495E-84C7-157ECB7CC3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CE011F5-94D5-4FB0-87C5-20923A82B2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029B755F-9DF7-4AD1-84DE-D7DAD36DF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F41A3F-A03F-4563-830A-A5EAEF0AD6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3FF100-9428-43DF-8C35-791AD6ADB6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840D65-8E08-4B34-B3F0-C8586B9AB6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CA15B4-3ED0-441A-B08F-3647247E01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D5065C-869B-4B35-BA7D-231F035CF6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870D52-9646-4708-9E29-A59005E747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F42D3D-7491-44FA-9D1F-83D807FCD9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042F05-EF1D-4D21-A8F1-7B9197501C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CA3C54-47FC-4016-8BA0-467C2C2EA9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0B5B980-537F-4607-83EB-649AFA42EE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52F3E3ED-3B4A-4C4E-B6B1-E52FD4C85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2B82DD7-4B4F-4E5A-AF74-C8BC1964E32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0F30E5B-38A0-4F76-9091-1A3767CE60A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C17219-711E-4268-919A-6F0117B597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BC06D2-B54C-4F8E-BBAB-40E2E5AB28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1D5ACE-469D-4285-A187-5A44B5D88A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413FA67-3C04-4BC9-BB79-A58109D54DC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CD0751-B97B-411A-BB45-1D652FCB72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F34C55-84A7-4BCE-9C5C-6414DA3E16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212E09-C175-4075-B18D-7E31194B98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39E19C-96D7-4B7B-AA75-1FF866F896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7EAC7A58-0209-4C5C-9F89-EDFD6879D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B3D25C-B4FB-43CF-9DAB-FEB829C03A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4458A79-FE8C-4392-8022-42D5A15F09D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9D2EA12-BBB7-4E53-B438-68F7B6F7F6B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7F26488-44C9-4096-A74A-233C4BAED3E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F858ED-30A5-4D24-9639-3B0356E82B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B75074-1E5B-4720-BF7A-4D46D00FB8A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714A772-1E1D-419F-B66C-29FA21796C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738C74-A857-4715-A090-DDE98A7D8A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C101E5-3F15-4A82-A6D3-49549F61E5E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9A56DD-85B6-44B4-B002-706BDA14986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93092970-1E48-4D63-801F-68555769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BCA86C-676F-4532-86CD-533342D998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CC08A8-7969-4CF5-BBFD-AF1B80D0B9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8C2470-5AAC-467D-96E5-59B3965DAAC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9BFA352-F801-4832-891B-43B67E4C122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3E4895D-62A1-4642-A1DB-2C666688821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724D072-82C4-498B-97F3-D418C99C46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D78936-3692-4694-82D0-F6CD91675B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873EC3-D4BD-4153-B80B-575A6023B7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62AEEF6-E624-4106-9D5D-38B4782F46C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AA01555-C771-4111-B7DA-0C996B991D1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0004C26D-7335-43F5-BABC-3AEF39E6B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09B672C-5FFD-47D7-83A6-78E1BB274D9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3BBD47-776D-4B78-A0C9-59990A5E58B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E1943D-F6B2-43F1-88F4-1ED4CD76AA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4532D3-FE1F-46AE-8698-5BE7A49882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287EAA3-634D-4BED-84E1-95A4B6C1BB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551BA80-B370-4655-BE8B-DAE4D074F57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6668A50-C968-4011-B362-6E400A89E81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594D1FA-F3B4-454A-951E-3C0FD6D5C5E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445FDEE-A293-448C-A410-2CBB94E078E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25F71D-5B21-44E0-AC73-8AF15054EF4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C03C-A1FA-4D33-B2AF-E9139E0056F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B6D8-B2FE-41EE-A960-B1CE87A5F98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A2C2-84A6-44AE-9DBF-31931840BFB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3E89-6198-43F6-A5B0-1604D4A6C88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B251-EBC5-443E-BAF8-EE970C7029A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F3AD-ED20-431A-A691-32E022D339E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071E-A68F-45D3-8F53-74286593CBF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D233-1E70-46FB-AAF0-EE269901E05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E48B-9E4C-46E7-B687-9075B0129E5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D3C6-1A67-43DD-883D-F22AF3FC022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C055-E942-4D07-BD53-44CCD84DD66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6ACB-DE22-44B8-8214-0418C520F9D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Rectangle 2"/>
          <p:cNvSpPr/>
          <p:nvPr/>
        </p:nvSpPr>
        <p:spPr>
          <a:xfrm>
            <a:off x="2808360" y="2263680"/>
            <a:ext cx="6027840" cy="2957760"/>
          </a:xfrm>
          <a:prstGeom prst="rect">
            <a:avLst/>
          </a:prstGeom>
          <a:noFill/>
          <a:ln w="0">
            <a:noFill/>
          </a:ln>
        </p:spPr>
        <p:style>
          <a:lnRef idx="0"/>
          <a:fillRef idx="0"/>
          <a:effectRef idx="0"/>
          <a:fontRef idx="minor"/>
        </p:style>
        <p:txBody>
          <a:bodyPr lIns="90000" rIns="90000" tIns="46800" bIns="46800" anchor="b">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6"/>
                </a:solidFill>
                <a:latin typeface="Arial"/>
              </a:rPr>
              <a:t>Quality Presentation on Land Surveying Services (MWP1593TX) Augmentation Tender Clarification – 13 September 2022 </a:t>
            </a:r>
            <a:endParaRPr b="0" lang="en-US" sz="2800" spc="-1" strike="noStrike">
              <a:solidFill>
                <a:srgbClr val="00389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60" y="128160"/>
            <a:ext cx="7164360" cy="8859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 fall under Contractual Criteria</a:t>
            </a:r>
            <a:endParaRPr b="0" lang="en-US" sz="2400" spc="-1" strike="noStrike">
              <a:solidFill>
                <a:srgbClr val="ffffff"/>
              </a:solidFill>
              <a:latin typeface="Arial"/>
            </a:endParaRPr>
          </a:p>
        </p:txBody>
      </p:sp>
      <p:sp>
        <p:nvSpPr>
          <p:cNvPr id="657" name=""/>
          <p:cNvSpPr txBox="1"/>
          <p:nvPr/>
        </p:nvSpPr>
        <p:spPr>
          <a:xfrm>
            <a:off x="436680" y="1436760"/>
            <a:ext cx="8378640" cy="5045040"/>
          </a:xfrm>
          <a:prstGeom prst="rect">
            <a:avLst/>
          </a:prstGeom>
          <a:noFill/>
          <a:ln w="0">
            <a:noFill/>
          </a:ln>
        </p:spPr>
        <p:txBody>
          <a:bodyPr anchor="t">
            <a:normAutofit/>
          </a:bodyPr>
          <a:p>
            <a:pPr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No scoring for the Contractual Criteria, just an indication that the supplier has met the requirements listed under the Criteria. The evaluation will only be conducted to the suppliers who have met/ pass all the functional criteria requirements. The outstanding information will be requested in writing through the buyer from the supplier and should be resubmitted within 5 days after the request. The Quality rep will indicate if  the information is acceptable  or not.</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EE56-957A-46B9-B57D-6E3D51445E1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71B9-916D-4A33-82D9-DC6099FB552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0"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 </a:t>
            </a:r>
            <a:endParaRPr b="0" lang="en-US" sz="2400" spc="-1" strike="noStrike">
              <a:solidFill>
                <a:srgbClr val="ffffff"/>
              </a:solidFill>
              <a:latin typeface="Arial"/>
            </a:endParaRPr>
          </a:p>
        </p:txBody>
      </p:sp>
      <p:sp>
        <p:nvSpPr>
          <p:cNvPr id="661" name="PlaceHolder 2"/>
          <p:cNvSpPr>
            <a:spLocks noGrp="1"/>
          </p:cNvSpPr>
          <p:nvPr>
            <p:ph/>
          </p:nvPr>
        </p:nvSpPr>
        <p:spPr>
          <a:xfrm>
            <a:off x="324000" y="1196640"/>
            <a:ext cx="8378640" cy="5256360"/>
          </a:xfrm>
          <a:prstGeom prst="rect">
            <a:avLst/>
          </a:prstGeom>
          <a:noFill/>
          <a:ln w="0">
            <a:noFill/>
          </a:ln>
        </p:spPr>
        <p:txBody>
          <a:bodyPr anchor="t">
            <a:normAutofit/>
          </a:bodyPr>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QM 58 Specification</a:t>
            </a:r>
            <a:endParaRPr b="0" lang="en-US" sz="2000" spc="-1" strike="noStrike">
              <a:solidFill>
                <a:srgbClr val="003896"/>
              </a:solidFill>
              <a:latin typeface="Arial"/>
            </a:endParaRPr>
          </a:p>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3896"/>
                </a:solidFill>
                <a:uFillTx/>
                <a:latin typeface="Arial"/>
              </a:rPr>
              <a:t>Section A :  Quality Management System Requirements ISO 9001</a:t>
            </a:r>
            <a:endParaRPr b="0" lang="en-US" sz="2000" spc="-1" strike="noStrike">
              <a:solidFill>
                <a:srgbClr val="003896"/>
              </a:solidFill>
              <a:latin typeface="Arial"/>
            </a:endParaRPr>
          </a:p>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bjective evidence of documented QMS that complies with ISO 9001</a:t>
            </a:r>
            <a:endParaRPr b="0" lang="en-US" sz="2000" spc="-1" strike="noStrike">
              <a:solidFill>
                <a:srgbClr val="003896"/>
              </a:solidFill>
              <a:latin typeface="Arial"/>
            </a:endParaRPr>
          </a:p>
          <a:p>
            <a:pPr lvl="1" marL="717480" indent="-271440">
              <a:lnSpc>
                <a:spcPct val="2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Method statement based on scope. </a:t>
            </a:r>
            <a:endParaRPr b="0" lang="en-US" sz="1800" spc="-1" strike="noStrike">
              <a:solidFill>
                <a:srgbClr val="003896"/>
              </a:solidFill>
              <a:latin typeface="Arial"/>
            </a:endParaRPr>
          </a:p>
          <a:p>
            <a:pPr lvl="1" marL="717480" indent="-271440">
              <a:lnSpc>
                <a:spcPct val="2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Policy Approved by top management.</a:t>
            </a:r>
            <a:endParaRPr b="0" lang="en-US" sz="1800" spc="-1" strike="noStrike">
              <a:solidFill>
                <a:srgbClr val="003896"/>
              </a:solidFill>
              <a:latin typeface="Arial"/>
            </a:endParaRPr>
          </a:p>
          <a:p>
            <a:pPr lvl="1" marL="717480" indent="-271440">
              <a:lnSpc>
                <a:spcPct val="2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Objectives Approved by top management.</a:t>
            </a:r>
            <a:endParaRPr b="0" lang="en-US" sz="1800" spc="-1" strike="noStrike">
              <a:solidFill>
                <a:srgbClr val="003896"/>
              </a:solidFill>
              <a:latin typeface="Arial"/>
            </a:endParaRPr>
          </a:p>
          <a:p>
            <a:pPr lvl="1" marL="717480" indent="0">
              <a:lnSpc>
                <a:spcPct val="2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DA69-EB7D-46F8-93AC-43E4A1C4D1C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64" name="PlaceHolder 2"/>
          <p:cNvSpPr>
            <a:spLocks noGrp="1"/>
          </p:cNvSpPr>
          <p:nvPr>
            <p:ph/>
          </p:nvPr>
        </p:nvSpPr>
        <p:spPr>
          <a:xfrm>
            <a:off x="324000" y="1052640"/>
            <a:ext cx="8378640" cy="5400720"/>
          </a:xfrm>
          <a:prstGeom prst="rect">
            <a:avLst/>
          </a:prstGeom>
          <a:noFill/>
          <a:ln w="0">
            <a:noFill/>
          </a:ln>
        </p:spPr>
        <p:txBody>
          <a:bodyPr anchor="t">
            <a:normAutofit/>
          </a:bodyPr>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B: Evidence of QMS in operation (Tender Quality Requirements -240-105658000 /240-105658000)</a:t>
            </a:r>
            <a:endParaRPr b="0" lang="en-US" sz="2000" spc="-1" strike="noStrike">
              <a:solidFill>
                <a:srgbClr val="003896"/>
              </a:solidFill>
              <a:latin typeface="Arial"/>
            </a:endParaRPr>
          </a:p>
          <a:p>
            <a:pPr>
              <a:lnSpc>
                <a:spcPct val="20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ocumented information for defined roles, responsibilities and authorities</a:t>
            </a:r>
            <a:endParaRPr b="0" lang="en-US" sz="2000" spc="-1" strike="noStrike">
              <a:solidFill>
                <a:srgbClr val="003896"/>
              </a:solidFill>
              <a:latin typeface="Arial"/>
            </a:endParaRPr>
          </a:p>
          <a:p>
            <a:pPr>
              <a:lnSpc>
                <a:spcPct val="20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ocumented information for Control of Externally Provided Processes, Products and Services</a:t>
            </a: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93F7-B57E-4D31-8076-A6E6A3A7BF6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67" name="PlaceHolder 2"/>
          <p:cNvSpPr>
            <a:spLocks noGrp="1"/>
          </p:cNvSpPr>
          <p:nvPr>
            <p:ph/>
          </p:nvPr>
        </p:nvSpPr>
        <p:spPr>
          <a:xfrm>
            <a:off x="669960" y="1436400"/>
            <a:ext cx="8378640" cy="4079880"/>
          </a:xfrm>
          <a:prstGeom prst="rect">
            <a:avLst/>
          </a:prstGeom>
          <a:noFill/>
          <a:ln w="0">
            <a:noFill/>
          </a:ln>
        </p:spPr>
        <p:txBody>
          <a:bodyPr anchor="t">
            <a:normAutofit/>
          </a:bodyPr>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C: User defined additional Requirements &amp; miscellaneous (Ref 240-105658000)</a:t>
            </a:r>
            <a:endParaRPr b="0" lang="en-US" sz="2000" spc="-1" strike="noStrike">
              <a:solidFill>
                <a:srgbClr val="003896"/>
              </a:solidFill>
              <a:latin typeface="Arial"/>
            </a:endParaRPr>
          </a:p>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ustomer specific requirements &amp; other standards and required can be listed and evaluated here</a:t>
            </a:r>
            <a:endParaRPr b="0" lang="en-US" sz="2000" spc="-1" strike="noStrike">
              <a:solidFill>
                <a:srgbClr val="003896"/>
              </a:solidFill>
              <a:latin typeface="Arial"/>
            </a:endParaRPr>
          </a:p>
          <a:p>
            <a:pPr>
              <a:lnSpc>
                <a:spcPct val="20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rm A is completed and signed.</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669"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Godfrey Radzelani</cp:lastModifiedBy>
  <dcterms:modified xsi:type="dcterms:W3CDTF">2022-09-16T12:55:56Z</dcterms:modified>
  <cp:revision>31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